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DB3-B162-4BFC-B0BB-E3C8E7F1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B0E-5544-4B21-9C6A-CFF5C6FE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B66-E48C-43F0-8789-0733D101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D6A-63DE-4559-87BA-6CFABE54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829C-FE80-43E0-99CD-7B7DEC01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EA9F-9C59-411A-9A7B-87A8745A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7C5D-E935-457E-99AA-538F35DD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3990-901B-4328-8D1D-E5B0014E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D3D7-58DC-44B9-8EED-EDE0EC19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1F36-CAED-4917-AB8B-5B6490B6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5DA9-A6BA-4CFB-A839-1E95254E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2D4C-5A4F-4850-8996-A0353199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9B9F-259C-4E2F-BE03-05F69724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5D6A-3AA0-4B95-B5D5-CEEDDC3D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946B-E693-4F83-9520-5C2147E8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F350-94C7-488D-BF9F-924AA41F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012C-C895-4CC6-876B-18AA0321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116-8A5F-4655-90D3-E4EFBBDD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E624-5AA5-4B2A-995F-485F59A7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FF7-49D1-4F08-9B90-6A650ECE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44E-7E3F-4CD1-B792-A379A3D8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93C-A609-41C5-9452-41ACB2DD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63AB-448D-4CB1-A73E-85D0D261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84A-5496-4CF1-93BB-7730A211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5BE2-C81D-4749-9D42-3D0A19F17FE4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9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9F97-0076-4200-99BD-13146C1D95C9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Comic Sans MS"/>
              </a:rPr>
              <a:t>INVERSA UNEI MATRIC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Comic Sans MS"/>
              </a:rPr>
              <a:t>NOŢIUNI TEORETICE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569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ff"/>
                </a:solidFill>
                <a:latin typeface="Comic Sans MS"/>
              </a:rPr>
              <a:t>DEFINIŢIE: </a:t>
            </a:r>
            <a:r>
              <a:rPr b="1" lang="ro-RO" sz="2800" spc="-1" strike="noStrike">
                <a:solidFill>
                  <a:srgbClr val="ffffff"/>
                </a:solidFill>
                <a:latin typeface="Comic Sans MS"/>
              </a:rPr>
              <a:t>O matrice             este inversabilă dacă există o altă mat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1" lang="ro-RO" sz="2800" spc="-1" strike="noStrike">
                <a:solidFill>
                  <a:srgbClr val="ffffff"/>
                </a:solidFill>
                <a:latin typeface="Comic Sans MS"/>
              </a:rPr>
              <a:t>ic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r>
              <a:rPr b="1" lang="ro-RO" sz="2800" spc="-1" strike="noStrike">
                <a:solidFill>
                  <a:srgbClr val="ffffff"/>
                </a:solidFill>
                <a:latin typeface="Comic Sans MS"/>
              </a:rPr>
              <a:t>astfel încât  AB = BA =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TEOREMA:</a:t>
            </a:r>
            <a:r>
              <a:rPr b="1" i="1" lang="ro-RO" sz="2800" spc="-1" strike="noStrike">
                <a:solidFill>
                  <a:srgbClr val="ffffff"/>
                </a:solidFill>
                <a:latin typeface="Comic Sans MS"/>
              </a:rPr>
              <a:t> O matrice             este inversabilă dacă şi numai dacă det (A)   0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88000" y="1844640"/>
                <a:ext cx="1760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55640" y="2781360"/>
                <a:ext cx="1709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732720" y="2781360"/>
                <a:ext cx="4172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643280" y="3284640"/>
                <a:ext cx="176076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7308720" y="3789360"/>
                <a:ext cx="3924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ETERMINAREA INVERSEI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0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omic Sans MS"/>
              </a:rPr>
              <a:t>PASUL 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calculeaz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ă det ( A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Dacă det (A )       0, se trece la pasul 2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omic Sans MS"/>
              </a:rPr>
              <a:t>PASUL 2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Se determină matricea transpusă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11280" y="2997360"/>
                <a:ext cx="432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771640" y="4724280"/>
                <a:ext cx="792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omic Sans MS"/>
              </a:rPr>
              <a:t>PASUL 3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Se determină matricea adjunctă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unde: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Comic Sans MS"/>
              </a:rPr>
              <a:t>PASUL 4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492360" y="1484280"/>
                <a:ext cx="13669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332000" y="2205000"/>
                <a:ext cx="2376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e>
                        </m:d>
                      </m:e>
                      <m:sup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56000" y="3933720"/>
                <a:ext cx="26636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Comic Sans MS"/>
              </a:rPr>
              <a:t>EXEMPLU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02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Să se determine inversa matrice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268360" y="2565360"/>
                <a:ext cx="35928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Pasul 1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det (A) = 2 + 1 = 3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Pasul 2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9640" y="1700280"/>
                <a:ext cx="3384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∃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979640" y="3141720"/>
                <a:ext cx="223200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604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Pasul 3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atunci: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42920" y="1052640"/>
                <a:ext cx="4465800" cy="20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657440" y="3573360"/>
                <a:ext cx="25876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853272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Pasul 4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87280" y="1484280"/>
                <a:ext cx="432144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Comic Sans MS"/>
              </a:rPr>
              <a:t>EXERCIŢIU INDIVIDUAL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18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Să se verifice dacă următoare matrice este inversabilă şi în caz afirmativ să se determine inversa sa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268360" y="3357720"/>
                <a:ext cx="4059360" cy="22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05:42:09Z</dcterms:created>
  <dc:creator>cursant</dc:creator>
  <dc:description/>
  <dc:language>en-US</dc:language>
  <cp:lastModifiedBy>cursant</cp:lastModifiedBy>
  <dcterms:modified xsi:type="dcterms:W3CDTF">2010-09-08T05:18:54Z</dcterms:modified>
  <cp:revision>10</cp:revision>
  <dc:subject/>
  <dc:title>INVERSA UNEI MATRICE</dc:title>
</cp:coreProperties>
</file>